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29.png" ContentType="image/png"/>
  <Override PartName="/ppt/media/image19.jpeg" ContentType="image/jpeg"/>
  <Override PartName="/ppt/media/image11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6.wmf" ContentType="image/x-wmf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5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39A-E6B5-4BBE-8C10-F251F7EA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C4B-2D38-46D5-8499-343E1BA6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0B0E39-7300-472E-BECB-14566992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579D78-5D1B-47A9-8470-EC76B295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1910EE-11BE-47B4-8743-735E1D7E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170645-FD08-407B-87A0-639F8E74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9D015-D1EA-4D1B-93B2-4F6638AF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5D84A5-4101-46DC-9FE4-27B1B572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F7A928-C8BD-4EC6-A9D6-81A9E47D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11A23C-72B5-4956-BC0C-DD744C7A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817FB6-DFC4-4867-B1D6-1FB3BE81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A2F-A2B3-467B-93A4-91F20009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ADB-F67D-4F8F-B4CC-82F162A5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4009E-FFB1-4ECA-812D-B9EE6406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68FB2-DC13-4E6B-9352-41839C38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F95BC-3A81-42C2-9711-107BCD86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9BD7B-A33B-44F6-80EF-D602578A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38EA7-D4E4-4ECE-8250-D1E2094B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12CFA-4DAA-4057-9418-231E8317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4FAAD-34FA-4BDE-8E0B-9195D29D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4B2-4688-4058-A1EF-65DEAEFD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ACD8D-8397-4192-A933-1799F8F1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C96E9-F04F-4FB7-8007-C1574FC7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E3F37-03D4-4AA6-905D-1253560D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4D184-EC65-4FD4-AA50-9A155059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CA602-6A42-4A2D-9820-11AEDBBD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8FE1-BD28-4886-A004-850BA9B8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5115-47DE-49AC-8F54-E54952B4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6FDF-355A-4B81-98AB-074084D9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10C29-25EB-4618-A204-BEBEA99D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FDD5-BA23-46B7-A41E-8559FA7A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6F0D-B281-4314-A487-1351F4B8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1C501-C4B6-4121-ABDF-C3A79F90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3F6D-DFB3-4A31-8A23-AB82222B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0321-37A8-4FEE-849A-A47C3CB2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8A0E7-4CDC-4CF1-A8BD-D6B4F991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D728-627E-47DE-B487-8DCEC393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D323-7921-4CBA-B9FA-7F365C3D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D6FC5-FC74-4787-8D18-3A6EFD2D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73DCE0-37B3-40A4-BACF-27512F10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9F2D8-358B-4FAD-BE74-E95E08CD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4E91B-C0BD-45CA-93B8-B9EB686D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A26-C957-40EA-92EF-CEF8ACF4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FF33CA-3C19-4C01-ABE5-4BE5D109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D0F87-340E-479A-A052-EE9C6CD1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8A6C7-D46D-4F63-A3D5-8B5A93AE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0C524-3DE9-45C4-9A67-EAEDBDCF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4BAAF6-F8E9-4BE4-A095-43E0A4A6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21AE6-53C4-4057-99BE-D01903B8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2E75E4-FF15-4903-B584-CFD2898E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DDE99-A68B-4C09-B0CF-C9780495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EEA83-2518-44C0-97A6-AD881301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17AD5-F2B8-47E7-B481-C5E42826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E90-E3D4-4D58-8D56-14101865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EAC49-5C16-43CF-BF74-3A8F4263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5353B-18DE-4C02-B273-1484D65D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18A3F-2B25-4BBF-8D57-41C3C708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EDA82-C0A7-4A36-B039-A0DBDC9F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F67C5-F167-4926-B6EB-909D2134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31F4A-4B89-48EC-B233-37FEFCAB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7231C-14CC-4027-B2D7-80AD852E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506D6-345E-40CC-B341-E10DC5FE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C3D2C-8110-4568-A96F-EEC4A620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C5E24-AF83-4576-8B79-792CE453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561-0998-4F6B-A062-D4ADD6D9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80521-C0CD-4F6D-9E37-722029A0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2A81A-4991-4312-949E-2F4126D9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DE9BB-9431-42B3-949A-F0379450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47297-5A87-431A-9FE2-3863B29E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55CDC-63A8-4937-9AAC-188751E9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C892C-5695-4C18-A098-2891307F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AFC5A-B878-4DF6-93D7-92927914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71FB9-D80C-4E59-A02E-BE2DB0BF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190F0-5128-4AA0-A80F-2F0FBD2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AD82E-4ED7-4D74-92D7-EE6FA13A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983-9DF7-40A2-9DD6-C9197329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443AF-A0E2-44BF-BFEB-BF480C81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14357-6663-4162-8376-A236ACDD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B4B93-B57C-4D1B-AD3F-487C94AF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A9951-25B1-49B9-B4C6-FAFB77D5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1E04E-7C06-4500-BB5F-1C3E7201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B89CC-DE42-4F41-8182-250D5798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310DA-85F7-4BD4-998A-887853F0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0D735-D9E2-424D-83CC-C074FBBD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7C116-8D76-4B8E-992C-54984CB7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4DB30-0EB1-4446-B4CF-7CEFF693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41A-8B50-4652-996F-3A86DD99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CF419-2DCE-43CF-8D7F-9C09BCC7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BAB70-C99E-4267-AAE7-E0405F34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1CAB2-8C25-409D-B814-CD62D22E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D8278-8ADC-473B-83EB-0967D91C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B4D06-3007-4BC3-B668-73FF945C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89E7A3-15A0-4CBB-A1F6-0216C1FA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9A02C3-825C-4E65-93D6-9200554E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7B22B5-D112-4EAA-9F4A-9143EE49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CCE9D1-1DC6-4D2A-9DDE-81EF4783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A7E725-69D6-4309-B38B-4E956682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2A1-FF4E-4A08-A1CB-AB658E6E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829671-D1E8-4ABC-9A74-6B55EDAE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19B74-D7C6-427E-8B85-F2DC91AB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75F1AE-DE37-4C50-8156-FB6AA0FB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874F74-049E-40D8-9CF5-1630BCE9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D7485B-2846-45D6-9E4F-8C423C80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8E2A84-314F-4D28-A04B-C48F64C6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45314E-ECD0-431E-8445-EAC2607F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0977CD-1EE3-4B76-8A7A-CC75C649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70B8D4-B40B-4A4A-B3C1-9AC9033C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03DEF0-1607-4247-9C5B-ED513821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8C60-C9EE-41F8-8899-20642DEFCAB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CD8A-8101-4F9B-A43E-2504D92476F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BC7F-C210-4AFF-AB70-785B257AD71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991B-128D-4E34-B654-56ED46B80B0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830C-2184-41EC-AABA-53CA3DC9E02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572F-A2BE-4D89-A16B-AE084F70750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2630-2284-40DD-A27B-57F953F3FD0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8F74-40F2-4270-83FB-ECC965D304A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A339-EF8F-4B26-8A9A-5466ADBFF62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412120" cy="2590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Vraciu Cristia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asse 9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Son nom vient du mot "chandelle"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On fait et on mange des crêpes .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ela porte bonheur de les faire sauter avec un morceau d'or dans la main.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3" name="Picture 6" descr="Crêpes"/>
          <p:cNvPicPr/>
          <p:nvPr/>
        </p:nvPicPr>
        <p:blipFill>
          <a:blip r:embed="rId2"/>
          <a:stretch/>
        </p:blipFill>
        <p:spPr>
          <a:xfrm>
            <a:off x="914400" y="4724280"/>
            <a:ext cx="1523880" cy="1616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Crêpes"/>
          <p:cNvPicPr/>
          <p:nvPr/>
        </p:nvPicPr>
        <p:blipFill>
          <a:blip r:embed="rId3"/>
          <a:stretch/>
        </p:blipFill>
        <p:spPr>
          <a:xfrm>
            <a:off x="6705720" y="4419720"/>
            <a:ext cx="1181160" cy="1619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Chandelle"/>
          <p:cNvPicPr/>
          <p:nvPr/>
        </p:nvPicPr>
        <p:blipFill>
          <a:blip r:embed="rId4"/>
          <a:stretch/>
        </p:blipFill>
        <p:spPr>
          <a:xfrm>
            <a:off x="7389720" y="1066680"/>
            <a:ext cx="11620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’est la  Fête National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des Français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e jour-là, il y a d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défilés militaires da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les ru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On peut bien sûr admirer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des  feux d’artifice le soi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595680" cy="23619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"/>
          <p:cNvPicPr/>
          <p:nvPr/>
        </p:nvPicPr>
        <p:blipFill>
          <a:blip r:embed="rId3"/>
          <a:stretch/>
        </p:blipFill>
        <p:spPr>
          <a:xfrm>
            <a:off x="5632560" y="4191120"/>
            <a:ext cx="297180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1680" cy="15238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Rockwell"/>
              </a:rPr>
              <a:t>C’est la </a:t>
            </a:r>
            <a:r>
              <a:rPr b="0" lang="fr-FR" sz="2800" spc="-1" strike="noStrike">
                <a:solidFill>
                  <a:srgbClr val="ffffff"/>
                </a:solidFill>
                <a:latin typeface="Rockwell"/>
              </a:rPr>
              <a:t>fête</a:t>
            </a:r>
            <a:r>
              <a:rPr b="0" lang="en-AU" sz="2800" spc="-1" strike="noStrike">
                <a:solidFill>
                  <a:srgbClr val="ffffff"/>
                </a:solidFill>
                <a:latin typeface="Rockwell"/>
              </a:rPr>
              <a:t> du travail. C’est un </a:t>
            </a:r>
            <a:r>
              <a:rPr b="0" lang="fr-FR" sz="2800" spc="-1" strike="noStrike">
                <a:solidFill>
                  <a:srgbClr val="ffffff"/>
                </a:solidFill>
                <a:latin typeface="Rockwell"/>
              </a:rPr>
              <a:t>jour férié </a:t>
            </a:r>
            <a:r>
              <a:rPr b="0" lang="en-AU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Rockwell"/>
              </a:rPr>
              <a:t>Pendant ce jour férié on s'offre un petit bouguet de muguet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Lucida Calligraphy"/>
              </a:rPr>
              <a:t>Timide et coquet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Lucida Calligraphy"/>
              </a:rPr>
              <a:t>Je m'appelle le muguet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Lucida Calligraphy"/>
              </a:rPr>
              <a:t>Dans mes feuilles je me cache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Lucida Calligraphy"/>
              </a:rPr>
              <a:t>de peur qu'on ne m'arrache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Lucida Calligraphy"/>
              </a:rPr>
              <a:t>Et s'il est vrai que je porte bonheur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Lucida Calligraphy"/>
              </a:rPr>
              <a:t>Venez, venez je vous offre mon cœur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6705720" y="2590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’est une fête mobile qui se fête entre le 22 mars et le 25 avril. C'est une fête religieuse qui commémore la résurrection de Jésus pour la religion chrétienn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Les enfants reçoivent des œufs,des     cloches, des lapins et des poussins en   chocola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Les enfants ont 15 jours de vacances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7467480" y="2133720"/>
            <a:ext cx="144792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lapin chocolat"/>
          <p:cNvPicPr/>
          <p:nvPr/>
        </p:nvPicPr>
        <p:blipFill>
          <a:blip r:embed="rId3"/>
          <a:stretch/>
        </p:blipFill>
        <p:spPr>
          <a:xfrm>
            <a:off x="228600" y="4267080"/>
            <a:ext cx="952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C’est une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 fête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religieuse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. La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fête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Noël est devenue la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fête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 de l’enfance. Le Père Noël qui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habite le Pôle Nord fait des cadeaux. Les enfants ont deux semaines de vacanc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9" name="Picture 8" descr="MCj02857940000[1]"/>
          <p:cNvPicPr/>
          <p:nvPr/>
        </p:nvPicPr>
        <p:blipFill>
          <a:blip r:embed="rId2"/>
          <a:stretch/>
        </p:blipFill>
        <p:spPr>
          <a:xfrm>
            <a:off x="533520" y="152280"/>
            <a:ext cx="1814400" cy="1271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MCj03973800000[1]"/>
          <p:cNvPicPr/>
          <p:nvPr/>
        </p:nvPicPr>
        <p:blipFill>
          <a:blip r:embed="rId4"/>
          <a:stretch/>
        </p:blipFill>
        <p:spPr>
          <a:xfrm>
            <a:off x="6172200" y="3962520"/>
            <a:ext cx="1814400" cy="1785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5"/>
          <a:stretch/>
        </p:blipFill>
        <p:spPr>
          <a:xfrm>
            <a:off x="2936880" y="426708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Saint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Valentin est le patron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des amoureux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'est la fête de l'amour. Les amoureux sortent, vont au restaurant et les jeunes filles reçoivent des fleurs, des chocolats ou des bijoux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5" name="Picture 6" descr="valenti"/>
          <p:cNvPicPr/>
          <p:nvPr/>
        </p:nvPicPr>
        <p:blipFill>
          <a:blip r:embed="rId2"/>
          <a:stretch/>
        </p:blipFill>
        <p:spPr>
          <a:xfrm>
            <a:off x="3429000" y="4224240"/>
            <a:ext cx="3276720" cy="23590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Cupidon Saint Valentin"/>
          <p:cNvPicPr/>
          <p:nvPr/>
        </p:nvPicPr>
        <p:blipFill>
          <a:blip r:embed="rId3"/>
          <a:stretch/>
        </p:blipFill>
        <p:spPr>
          <a:xfrm rot="893400">
            <a:off x="7655040" y="1496520"/>
            <a:ext cx="114912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1680" cy="152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Est en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février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ou en ma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C’est un jour o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ù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 l’on fait un carnava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Les enfants se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déguis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ent et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mangent des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rêpe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9" name="Picture 5" descr="Mardi gras"/>
          <p:cNvPicPr/>
          <p:nvPr/>
        </p:nvPicPr>
        <p:blipFill>
          <a:blip r:embed="rId2"/>
          <a:stretch/>
        </p:blipFill>
        <p:spPr>
          <a:xfrm rot="1158000">
            <a:off x="5837040" y="1066320"/>
            <a:ext cx="1428480" cy="1447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"/>
          <p:cNvPicPr/>
          <p:nvPr/>
        </p:nvPicPr>
        <p:blipFill>
          <a:blip r:embed="rId3"/>
          <a:stretch/>
        </p:blipFill>
        <p:spPr>
          <a:xfrm>
            <a:off x="6095880" y="3429000"/>
            <a:ext cx="2057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C’est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une fête qui se célèbre le 31 octobre, veille de la Toussaint.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On pose des potirons oranges dans la maiso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On se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déguise en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sorcières 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et en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fantômes. C'est un véritable concours d'horreur!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3" name="Picture 12" descr="MCj04359230000[1]"/>
          <p:cNvPicPr/>
          <p:nvPr/>
        </p:nvPicPr>
        <p:blipFill>
          <a:blip r:embed="rId2"/>
          <a:stretch/>
        </p:blipFill>
        <p:spPr>
          <a:xfrm>
            <a:off x="6553080" y="4648320"/>
            <a:ext cx="1803600" cy="18828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0" descr="MCj04362080000[1]"/>
          <p:cNvPicPr/>
          <p:nvPr/>
        </p:nvPicPr>
        <p:blipFill>
          <a:blip r:embed="rId3"/>
          <a:stretch/>
        </p:blipFill>
        <p:spPr>
          <a:xfrm>
            <a:off x="685800" y="228600"/>
            <a:ext cx="1828800" cy="1155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1" descr="MCj04362130000[1]"/>
          <p:cNvPicPr/>
          <p:nvPr/>
        </p:nvPicPr>
        <p:blipFill>
          <a:blip r:embed="rId4"/>
          <a:stretch/>
        </p:blipFill>
        <p:spPr>
          <a:xfrm>
            <a:off x="7645320" y="1828800"/>
            <a:ext cx="1498680" cy="1828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MCj04362160000[1]"/>
          <p:cNvPicPr/>
          <p:nvPr/>
        </p:nvPicPr>
        <p:blipFill>
          <a:blip r:embed="rId5"/>
          <a:stretch/>
        </p:blipFill>
        <p:spPr>
          <a:xfrm>
            <a:off x="2895480" y="4638600"/>
            <a:ext cx="1828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’est lui qui vient sur son âne pour apporter des jouets aux enfants sag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Les enfants lui laissent un verre de lait (ou de vin), une carotte et des morceaux de sucre pour son ân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Pour les remercier Saint Nicolas leur apporte traditionnellement du pain d'épices et des bonbons. 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9" name="Picture 8" descr="MCj04397680000[1]"/>
          <p:cNvPicPr/>
          <p:nvPr/>
        </p:nvPicPr>
        <p:blipFill>
          <a:blip r:embed="rId2"/>
          <a:stretch/>
        </p:blipFill>
        <p:spPr>
          <a:xfrm rot="570600">
            <a:off x="5810040" y="4458960"/>
            <a:ext cx="2261880" cy="2262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MCj04397670000[1]"/>
          <p:cNvPicPr/>
          <p:nvPr/>
        </p:nvPicPr>
        <p:blipFill>
          <a:blip r:embed="rId3"/>
          <a:stretch/>
        </p:blipFill>
        <p:spPr>
          <a:xfrm rot="20955000">
            <a:off x="812880" y="5079600"/>
            <a:ext cx="149688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07:48:08Z</dcterms:created>
  <dc:creator>Cristi</dc:creator>
  <dc:description/>
  <dc:language>en-US</dc:language>
  <cp:lastModifiedBy>Cristi</cp:lastModifiedBy>
  <dcterms:modified xsi:type="dcterms:W3CDTF">2012-04-30T10:02:02Z</dcterms:modified>
  <cp:revision>7</cp:revision>
  <dc:subject/>
  <dc:title>Les Fetes En France</dc:title>
</cp:coreProperties>
</file>